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55B-F36F-4605-81F9-E18A3811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BD4-ED7D-40BC-A609-6024E12B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E86-1AC8-46D7-BF7B-41A39B14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AC8-8A6F-45E1-A71A-A685309D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1C69-6C47-4DB7-B486-5FA7146D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4B40-A7CF-4D21-9609-322FF4C3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70B1-0218-4B3E-913D-7D0A487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0281-9E59-4CBD-B999-99833311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47A4-6750-4332-A629-CAB67982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823B-3A2F-4093-BCD8-3F306F46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8A21-DDD2-4D98-BC9E-9B6A20C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D17-21A3-4E49-AA79-86E5F0C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DF39-180F-464E-8EC7-2238911D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38F7-4F44-4452-9F85-E9548050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765F-8B32-45BE-B28F-B7A9328F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50A4-20AC-430C-88E0-188D3174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6F4D-8D21-40AF-805F-299832F2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0B8-5A7B-4D48-B006-7F4661FF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633-1DC4-4741-9D50-EDCF0083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D04-1756-4026-A7FC-0AC174AA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312-A00E-4562-AEC4-0CE7972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43A-F624-4394-8DDD-F628048A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2A1-E81B-4058-B7C3-184B196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6F1-1FBE-430D-AF22-63B55045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98B5-E5B7-4E0B-B039-5F7994B975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734A-5900-4CF7-AC63-7112B9BF3C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element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646360" cy="498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0"/>
          <p:cNvSpPr/>
          <p:nvPr/>
        </p:nvSpPr>
        <p:spPr>
          <a:xfrm rot="20817600">
            <a:off x="272880" y="129348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nap ITC"/>
              </a:rPr>
              <a:t>Biochemistry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143000" y="40384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nap ITC"/>
              </a:rPr>
              <a:t>Acids &amp; Bas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C:\Documents and Settings\Liz\Local Settings\Temporary Internet Files\Content.IE5\EEEZ3B4P\MCj03663640000[1].wmf"/>
          <p:cNvPicPr/>
          <p:nvPr/>
        </p:nvPicPr>
        <p:blipFill>
          <a:blip r:embed="rId3"/>
          <a:stretch/>
        </p:blipFill>
        <p:spPr>
          <a:xfrm>
            <a:off x="6858000" y="2362320"/>
            <a:ext cx="21654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tom of aluminum has 13 protons in its nucleus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electrons does the atom have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you kno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on the information button for a periodic t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>
            <a:hlinkClick r:id="rId2"/>
          </p:cNvPr>
          <p:cNvSpPr/>
          <p:nvPr/>
        </p:nvSpPr>
        <p:spPr>
          <a:xfrm>
            <a:off x="4114800" y="51055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228" h="21600">
                <a:moveTo>
                  <a:pt x="131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228" h="21600">
                <a:moveTo>
                  <a:pt x="10537" y="8224"/>
                </a:moveTo>
                <a:lnTo>
                  <a:pt x="14402" y="8224"/>
                </a:lnTo>
                <a:lnTo>
                  <a:pt x="14402" y="15221"/>
                </a:lnTo>
                <a:lnTo>
                  <a:pt x="15690" y="15221"/>
                </a:lnTo>
                <a:lnTo>
                  <a:pt x="15690" y="16144"/>
                </a:lnTo>
                <a:lnTo>
                  <a:pt x="10537" y="16144"/>
                </a:lnTo>
                <a:lnTo>
                  <a:pt x="10537" y="15221"/>
                </a:lnTo>
                <a:lnTo>
                  <a:pt x="11826" y="15221"/>
                </a:lnTo>
                <a:lnTo>
                  <a:pt x="11826" y="9129"/>
                </a:lnTo>
                <a:lnTo>
                  <a:pt x="10537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3:01:56Z</dcterms:created>
  <dc:creator>PritchaJ</dc:creator>
  <dc:description/>
  <dc:language>en-US</dc:language>
  <cp:lastModifiedBy>PritchaJ</cp:lastModifiedBy>
  <dcterms:modified xsi:type="dcterms:W3CDTF">2011-05-26T13:04:34Z</dcterms:modified>
  <cp:revision>1</cp:revision>
  <dc:subject/>
  <dc:title>Slide 1</dc:title>
</cp:coreProperties>
</file>